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9.jpeg" ContentType="image/jpeg"/>
  <Override PartName="/ppt/media/image3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877-0A6A-4F26-BFE7-23B54D0F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003-FDD1-496E-B332-43E9849E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F0E-A065-4C16-88F5-9AF9B0D8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906-FC2F-4B4B-84E3-D92554A2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320F-FD2B-42AB-B99B-77F2A96C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E063-66ED-4DCF-8C12-7796EE0C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0DC5-A7B8-4568-89C6-54495306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FDBD-11DE-412E-AE73-D1ECF7D3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4C79-9867-41E7-A985-A5546268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23E1-9528-48B0-8597-9C61A69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331D-7252-4113-8BC1-39A44BD1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17F-E6CE-4CAB-9CF6-F3360F5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C1BC-917B-4DAE-B96F-7614D74F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9B75-D728-4B90-87E7-B814A19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6C0A-DE3E-46BB-BD1C-1401A225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536E-3BBF-4FDE-9857-EC62A6C0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6778-957D-4E33-8185-3CC31206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24E2B-B6F8-46F1-A6B2-68E34307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DD3A9-8D27-4AFC-AA93-11D58A15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3B839-D98B-4702-B9D4-C3525D9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1B750-1B94-4C1B-9EFD-1DA2FDA1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15FF7-B969-440F-836B-112A0F0C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2C4-2EEA-44B9-9394-D016FC07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F908D-1152-4420-AABD-BB111F77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EA0C6-93B1-4D8B-BD00-FC13F1BB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80CF8-E821-4C47-A8D8-2E8B7CF9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FAF6E-8A8B-4E83-90FC-31A75A0A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CD201-2201-45AC-A9F7-2ABD42D8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3589F-0FD4-4FC3-BF57-261934F2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8F803-87F5-48AB-A613-07BD0732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036A-4DAD-4D63-84D8-9EF69F54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6B80-032C-4211-AA7F-260AB8A4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8218-054E-42B3-984C-088A041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D0A-6195-4E91-AF14-7882F336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E8DF-DB43-43CD-B21F-D36EFD5E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FFF6-15F6-486B-A1CA-FC8386A4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F983-F6D0-48DA-8393-3DB7717D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42AB-16AC-4D2A-B197-F6FF705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90CE-CD21-46A6-A657-B73086DE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76F3-FBCB-4CD1-A5B9-1DDB405D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5680D-193E-4E18-A626-550BBD56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08FF-78BB-4BB6-94A2-0CF713A6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2073-9B69-414C-93A7-CB9F0F19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F24-B78A-4606-9CED-4514A79A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B4D-74C3-47A7-AFE9-5F4B5525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B35-193F-4DEF-A7D1-D0F6243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E47-1826-4E14-B21D-DB1820A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463-C8CE-42A8-9E3E-699DD92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EEA9-C2AB-4FC8-9443-99C7F703C000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5B1C-0036-432D-96F7-99F9B64DAEE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0AF0-5D50-4C10-A849-84D036F79C4F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0F5C-3ADB-4A54-8D07-37BC483D09E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2DF9-765B-4CF1-BA2B-8C0261829F8D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0564-EFBB-468E-888B-D6DA8BD1B05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299A-C2DA-497D-9908-87C40EE309A6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2224-29E0-4F34-992C-CCF91F4CE52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oil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Thin Layer Providing Life</a:t>
            </a:r>
            <a:br>
              <a:rPr sz="4000"/>
            </a:b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295280" y="490680"/>
            <a:ext cx="6477120" cy="6229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Living Organisms Found in Soil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s of life in soil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wor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ng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ther org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C:\Documents and Settings\kmyers.HS-LAPTOP\Local Settings\Temporary Internet Files\Content.IE5\2F8WAHKY\MPj04385240000[1].jpg"/>
          <p:cNvPicPr/>
          <p:nvPr/>
        </p:nvPicPr>
        <p:blipFill>
          <a:blip r:embed="rId1"/>
          <a:stretch/>
        </p:blipFill>
        <p:spPr>
          <a:xfrm>
            <a:off x="4572000" y="3886200"/>
            <a:ext cx="3048120" cy="201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Bacteria and Fungi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18960" y="1904760"/>
            <a:ext cx="74674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reak down organic matter and release nutrie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 symbiotic relationships with plants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Symbiosi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the living together of unlike organisms where both organisms benefi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ungi get glucose and sucrose from plant roo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lants are assisted in the absorption of water and mineral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C:\Documents and Settings\kmyers.HS-LAPTOP\Local Settings\Temporary Internet Files\Content.IE5\1360HSEE\MCj04324230000[1].wmf"/>
          <p:cNvPicPr/>
          <p:nvPr/>
        </p:nvPicPr>
        <p:blipFill>
          <a:blip r:embed="rId1"/>
          <a:stretch/>
        </p:blipFill>
        <p:spPr>
          <a:xfrm>
            <a:off x="304920" y="2209680"/>
            <a:ext cx="1130040" cy="1041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Animals and Insects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worms, ants, crawfish, moles, and other organisms improve the soil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til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the ease with which soil can be worked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reate openings in the soil as they tunnel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hances drainage and improves air exchan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2" descr="C:\Documents and Settings\kmyers.HS-LAPTOP\Local Settings\Temporary Internet Files\Content.IE5\2F8WAHKY\MCBD07377_0000[1].wmf"/>
          <p:cNvPicPr/>
          <p:nvPr/>
        </p:nvPicPr>
        <p:blipFill>
          <a:blip r:embed="rId1"/>
          <a:stretch/>
        </p:blipFill>
        <p:spPr>
          <a:xfrm>
            <a:off x="3048120" y="4164120"/>
            <a:ext cx="2685960" cy="2217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What is soil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08280"/>
            <a:ext cx="82296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yer on the earth’s crust that provides a combination of resource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2" descr="C:\Documents and Settings\kmyers.HS-LAPTOP\Local Settings\Temporary Internet Files\Content.IE5\8XL8TNL2\MPj04331680000[1].jpg"/>
          <p:cNvPicPr/>
          <p:nvPr/>
        </p:nvPicPr>
        <p:blipFill>
          <a:blip r:embed="rId1"/>
          <a:stretch/>
        </p:blipFill>
        <p:spPr>
          <a:xfrm>
            <a:off x="2666880" y="2971800"/>
            <a:ext cx="4267440" cy="3193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What is the importance of soil?</a:t>
            </a: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2249640"/>
            <a:ext cx="35053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il forms a very thin interface between the continental crust, which is about 50 miles thick, and the atmosphere, which is about 170 miles deep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4038480" y="1916280"/>
            <a:ext cx="5105520" cy="4941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atmosphere, crust, and soil interact to provide these nutr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per oxyg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per temperatur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ther various nutrien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52120"/>
            <a:ext cx="640080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ygen—needed for adequate root growth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mperature—determined by the amount of heat the soil absorbs from the sun and the amount it loses to the atmosphere. Temperatures within a particular range are needed for plant growth and seed germin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C:\Documents and Settings\kmyers.HS-LAPTOP\Local Settings\Temporary Internet Files\Content.IE5\1360HSEE\MCj02265420000[1].wmf"/>
          <p:cNvPicPr/>
          <p:nvPr/>
        </p:nvPicPr>
        <p:blipFill>
          <a:blip r:embed="rId1"/>
          <a:stretch/>
        </p:blipFill>
        <p:spPr>
          <a:xfrm>
            <a:off x="6934320" y="2035080"/>
            <a:ext cx="1828800" cy="1312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Documents and Settings\kmyers.HS-LAPTOP\Local Settings\Temporary Internet Files\Content.IE5\TLGKW6I8\MCj04136240000[1].wmf"/>
          <p:cNvPicPr/>
          <p:nvPr/>
        </p:nvPicPr>
        <p:blipFill>
          <a:blip r:embed="rId2"/>
          <a:stretch/>
        </p:blipFill>
        <p:spPr>
          <a:xfrm>
            <a:off x="6934320" y="3809880"/>
            <a:ext cx="1450800" cy="218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52120"/>
            <a:ext cx="67816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er—utilized for growth of pla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—utilized in the form of organic matter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trients—provided as minerals. Nitrogen is one mineral made available and recycled through decaying material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3" descr="C:\Documents and Settings\kmyers.HS-LAPTOP\Local Settings\Temporary Internet Files\Content.IE5\1GYL4YA0\MCj03405200000[1].wmf"/>
          <p:cNvPicPr/>
          <p:nvPr/>
        </p:nvPicPr>
        <p:blipFill>
          <a:blip r:embed="rId1"/>
          <a:stretch/>
        </p:blipFill>
        <p:spPr>
          <a:xfrm>
            <a:off x="7086600" y="1066680"/>
            <a:ext cx="1752480" cy="1420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kmyers.HS-LAPTOP\Local Settings\Temporary Internet Files\Content.IE5\8XL8TNL2\MCj02265120000[1].wmf"/>
          <p:cNvPicPr/>
          <p:nvPr/>
        </p:nvPicPr>
        <p:blipFill>
          <a:blip r:embed="rId2"/>
          <a:stretch/>
        </p:blipFill>
        <p:spPr>
          <a:xfrm>
            <a:off x="7132680" y="2666880"/>
            <a:ext cx="170640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Documents and Settings\kmyers.HS-LAPTOP\Local Settings\Temporary Internet Files\Content.IE5\1GYL4YA0\MCj02265360000[1].wmf"/>
          <p:cNvPicPr/>
          <p:nvPr/>
        </p:nvPicPr>
        <p:blipFill>
          <a:blip r:embed="rId3"/>
          <a:stretch/>
        </p:blipFill>
        <p:spPr>
          <a:xfrm>
            <a:off x="7201080" y="4191120"/>
            <a:ext cx="1719000" cy="1218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600" y="2249640"/>
            <a:ext cx="2666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chorag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elps to hold plants in place so they can grow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1026" descr=""/>
          <p:cNvPicPr/>
          <p:nvPr/>
        </p:nvPicPr>
        <p:blipFill>
          <a:blip r:embed="rId1"/>
          <a:stretch/>
        </p:blipFill>
        <p:spPr>
          <a:xfrm>
            <a:off x="2971800" y="2325600"/>
            <a:ext cx="6172200" cy="4456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Soil Components 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lid portions (50 percent of soil volu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65200" indent="-21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Mineral matter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organic material originating from rock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termine the soil’s ability to hold water and provide nutri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nd, silt, and cl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65200" indent="-21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Organic matt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ally decomposed plant and animal matte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ibutes to the soil’s fertility as well as improved aeration and water-holding capac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ives soil its dark col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4" descr="C:\Documents and Settings\kmyers.HS-LAPTOP\Local Settings\Temporary Internet Files\Content.IE5\1GYL4YA0\MCj03892860000[1].wmf"/>
          <p:cNvPicPr/>
          <p:nvPr/>
        </p:nvPicPr>
        <p:blipFill>
          <a:blip r:embed="rId2"/>
          <a:stretch/>
        </p:blipFill>
        <p:spPr>
          <a:xfrm>
            <a:off x="7620120" y="219240"/>
            <a:ext cx="1295280" cy="1477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Soil Components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ore spac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50 percent of soil volu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i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57520" indent="-2034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ater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57520" indent="-2034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5 percent of the soi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57520" indent="-2034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n it rains, water will enter the soil or flow off the soil’s surfa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is a constant fluctuation in the amount of air and water found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4" descr="C:\Documents and Settings\kmyers.HS-LAPTOP\Local Settings\Temporary Internet Files\Content.IE5\1GYL4YA0\MCj03892860000[1].wmf"/>
          <p:cNvPicPr/>
          <p:nvPr/>
        </p:nvPicPr>
        <p:blipFill>
          <a:blip r:embed="rId2"/>
          <a:stretch/>
        </p:blipFill>
        <p:spPr>
          <a:xfrm>
            <a:off x="7620120" y="219240"/>
            <a:ext cx="1295280" cy="1477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0:22:34Z</dcterms:created>
  <dc:creator>kmyers</dc:creator>
  <dc:description/>
  <dc:language>en-US</dc:language>
  <cp:lastModifiedBy>Alicia Burge</cp:lastModifiedBy>
  <dcterms:modified xsi:type="dcterms:W3CDTF">2012-01-31T20:18:28Z</dcterms:modified>
  <cp:revision>22</cp:revision>
  <dc:subject/>
  <dc:title>Slide 1</dc:title>
</cp:coreProperties>
</file>